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8B4-8A90-4E8C-BA94-20C5F5943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11B-01D3-4B1E-9757-A580752F0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9DF-9590-4103-B914-715B0A15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553-8AEC-4EA6-8434-31F6E3B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D04-1D4F-4367-A535-1A67D5A3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489-5D01-4EEA-BA26-B585E7A3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645-EDE5-4D60-A69B-B669682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404-8CAC-404C-8CE7-ED9DC7D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CA1-1BB1-48C8-9539-F27389DB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B6A-954D-4B89-87C1-C4D4A4EF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323-CD2C-4CF4-B182-EABDD1B9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8C2-2C40-4553-8D86-DECF5D8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D75-F673-4F30-9CE0-B10EABB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399-0353-436B-A7C6-2992EE2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4E4-C2EF-4A57-9ADD-0347E6512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09480"/>
            <a:ext cx="8610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нновацио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хнолог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 уроках англий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35370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заверш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 данном эта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яется демонстрация полученных результа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щит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тем пров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607080" y="3452760"/>
            <a:ext cx="1104840" cy="1720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7170840" y="1273320"/>
            <a:ext cx="1447560" cy="208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tretch/>
        </p:blipFill>
        <p:spPr>
          <a:xfrm>
            <a:off x="7678800" y="4495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Scrum -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анд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мун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ит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Личный достижения ав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онлайн тестирование по теме «Применение методик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», диплом 1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ление об использование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технологии на уроках английского языка в рамках сеанса В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заочный конкурс педагогического мастерства РостОК , организованный ГАОУ «РОЦ», г.Казань, диплом победителя 2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публиканского конкурса «Современные подходы к организации воспитательно - образовательного процесса в соответствии с ФГОС», г. Наб.Челны, диплом 3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льные педагогические чтения, г. Чистополь, диплом побе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технологи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для реал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ние команды со своими идеями, огромным опытом и безграничной энергией, идущей в ногу со временем, стремящейся к достижению лучших результатов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304920"/>
            <a:ext cx="8458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ть учащимся возможность научиться уч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ысить мотивацию к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рактическая значимос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рока поможет в проведении проектных уроков/занятий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68160" y="304920"/>
            <a:ext cx="8458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етод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crum-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дготовительный 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мысло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ребования к конечному проду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роки и формы прие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6324480" y="141444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7381800" y="3352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рганизация учащихся                    в проектн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бор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накомство с «маршрутным лис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ределение задач (реализации) спри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формление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-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6586560" y="61128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7458120" y="375300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ащиеся, раб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 командах, выполняют различ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ча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енной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е члены команды е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во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491240" y="1828800"/>
            <a:ext cx="11052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202440" y="419040"/>
            <a:ext cx="14475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6997680" y="32878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09:48:58Z</dcterms:created>
  <dc:creator>Администратор</dc:creator>
  <dc:description/>
  <dc:language>en-US</dc:language>
  <cp:lastModifiedBy>Пользователь Windows</cp:lastModifiedBy>
  <dcterms:modified xsi:type="dcterms:W3CDTF">2022-03-29T12:41:2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